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4579938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133DF-FC34-45E0-8021-34DFF64C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89280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8880" y="3723120"/>
            <a:ext cx="89280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47282-38AA-4CA8-B8CB-3BB76CC9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8888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76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6DA7-91DB-4456-92E3-B98A076D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7480" y="105228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6440" y="105228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8880" y="372312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7480" y="372312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6440" y="372312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7D3B-DCCA-4BC5-A54F-0EBDC0A0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D272-3C37-4594-92A4-953BE50D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88880" y="1052280"/>
            <a:ext cx="892800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BF87-E392-404D-9D78-AFC94F60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892800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E45B-5706-4A8E-9D89-68CBC13D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20C2-E0B7-4111-A274-F8DCC0EE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1411-F6F0-4642-8DB9-0DA74E5E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6840"/>
            <a:ext cx="899460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20A8-50BC-43D3-B5B8-4753D149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888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D992-091E-4C91-B403-67128D78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88880" y="1052280"/>
            <a:ext cx="892800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D4F8-451C-4F8F-9C95-DB87B6F2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76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88DB-E558-4183-8737-40A28793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88880" y="3723120"/>
            <a:ext cx="89280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E512-5E86-456E-A245-D5AA6B36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89280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8880" y="3723120"/>
            <a:ext cx="89280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D985-29D3-49D2-A12B-DED3A46B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888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76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962E-3CD7-4E89-988E-FC2AB04D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7480" y="105228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6440" y="105228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88880" y="372312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7480" y="372312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6440" y="3723120"/>
            <a:ext cx="28746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5CB1-7FE7-4A72-8425-A3CE6B66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892800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FEFE-CAD6-4341-AA6B-F0F18EEA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CAD5-A69F-4380-A017-E68FC442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646A-2C25-4C37-929B-A6A00B70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6840"/>
            <a:ext cx="899460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928B-B47A-427B-AF00-10639F8A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88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97CC-8CC9-4CF6-8662-6CFC52C6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760" y="372312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C0CE-3FB8-403C-B551-F853C96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348120"/>
            <a:ext cx="8994600" cy="525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88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760" y="1052280"/>
            <a:ext cx="435672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8880" y="3723120"/>
            <a:ext cx="8928000" cy="2438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866A2-1463-4848-9598-86546499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72052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84052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DAC3-DEFD-4361-B5F2-AC43FC62CF9F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526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526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94600" cy="307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88880" y="1052280"/>
            <a:ext cx="892800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28720" indent="-24768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4768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476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476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154240" cy="4762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858680" y="1690560"/>
                <a:ext cx="62712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858680" y="2324160"/>
                <a:ext cx="62712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94600" cy="307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88880" y="1052280"/>
            <a:ext cx="8928000" cy="511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spcBef>
                <a:spcPts val="876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28720" indent="-247680">
              <a:spcBef>
                <a:spcPts val="876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47680">
              <a:spcBef>
                <a:spcPts val="876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476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476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3000" cy="457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9DC1-6016-4E34-B6C6-EDE9EFF319C1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20560" y="1828800"/>
            <a:ext cx="6519960" cy="2209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estad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20920" y="4267080"/>
            <a:ext cx="6485040" cy="890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7099200" y="6248520"/>
            <a:ext cx="231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CD89B24-CF71-4282-8F3E-F8AEA50136D3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229D318-2CF6-40E2-A30D-BA9347385F27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2 CuadroTexto"/>
          <p:cNvSpPr/>
          <p:nvPr/>
        </p:nvSpPr>
        <p:spPr>
          <a:xfrm>
            <a:off x="3452760" y="714240"/>
            <a:ext cx="1714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8 Imagen" descr="ESTADISTICA-BIO.jpg"/>
          <p:cNvPicPr/>
          <p:nvPr/>
        </p:nvPicPr>
        <p:blipFill>
          <a:blip r:embed="rId1"/>
          <a:stretch/>
        </p:blipFill>
        <p:spPr>
          <a:xfrm>
            <a:off x="309600" y="428760"/>
            <a:ext cx="93186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BC5D854-7CD7-49AB-948E-3DED63A8AD5B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4 Imagen" descr="VARIABLES- BIO.jpg"/>
          <p:cNvPicPr/>
          <p:nvPr/>
        </p:nvPicPr>
        <p:blipFill>
          <a:blip r:embed="rId1"/>
          <a:stretch/>
        </p:blipFill>
        <p:spPr>
          <a:xfrm>
            <a:off x="309600" y="428760"/>
            <a:ext cx="942984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5C8F785-81CE-4AC1-B78B-2887FF8C7AE7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Elipse"/>
          <p:cNvSpPr/>
          <p:nvPr/>
        </p:nvSpPr>
        <p:spPr>
          <a:xfrm>
            <a:off x="166680" y="1000080"/>
            <a:ext cx="2143080" cy="378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50400" bIns="504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Elipse"/>
          <p:cNvSpPr/>
          <p:nvPr/>
        </p:nvSpPr>
        <p:spPr>
          <a:xfrm>
            <a:off x="309600" y="857160"/>
            <a:ext cx="2714760" cy="34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50400" bIns="504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6 Imagen" descr="PARAMETROS- BIO.jpg"/>
          <p:cNvPicPr/>
          <p:nvPr/>
        </p:nvPicPr>
        <p:blipFill>
          <a:blip r:embed="rId1"/>
          <a:stretch/>
        </p:blipFill>
        <p:spPr>
          <a:xfrm>
            <a:off x="166680" y="566640"/>
            <a:ext cx="96440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174DA10-7E15-430E-98D6-90A45DE0C2BF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4 Imagen" descr="MEDIDAS DE RESUMEN- BIO 1.jpg"/>
          <p:cNvPicPr/>
          <p:nvPr/>
        </p:nvPicPr>
        <p:blipFill>
          <a:blip r:embed="rId1"/>
          <a:stretch/>
        </p:blipFill>
        <p:spPr>
          <a:xfrm>
            <a:off x="95400" y="428760"/>
            <a:ext cx="95724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127F968-15D4-4142-96C2-200899BF5ABE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4 Imagen" descr="MEDIDAS DE RESUMEN- BIO 2.jpg"/>
          <p:cNvPicPr/>
          <p:nvPr/>
        </p:nvPicPr>
        <p:blipFill>
          <a:blip r:embed="rId1"/>
          <a:stretch/>
        </p:blipFill>
        <p:spPr>
          <a:xfrm>
            <a:off x="95400" y="428760"/>
            <a:ext cx="968040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82D8983-48ED-4667-B399-4EA1F7CD7B51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4 Imagen" descr="DIAGRAMA DE CAJAS.jpg"/>
          <p:cNvPicPr/>
          <p:nvPr/>
        </p:nvPicPr>
        <p:blipFill>
          <a:blip r:embed="rId1"/>
          <a:stretch/>
        </p:blipFill>
        <p:spPr>
          <a:xfrm>
            <a:off x="95400" y="428760"/>
            <a:ext cx="9666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6FEFA1C-1644-43A5-B750-BFA55377654A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Tukey2"/>
          <p:cNvPicPr/>
          <p:nvPr/>
        </p:nvPicPr>
        <p:blipFill>
          <a:blip r:embed="rId1"/>
          <a:stretch/>
        </p:blipFill>
        <p:spPr>
          <a:xfrm>
            <a:off x="237960" y="214200"/>
            <a:ext cx="95014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Marcador de pie de página"/>
          <p:cNvSpPr/>
          <p:nvPr/>
        </p:nvSpPr>
        <p:spPr>
          <a:xfrm>
            <a:off x="272088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Tema 2: Estadí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6 Marcador de número de diapositiva"/>
          <p:cNvSpPr/>
          <p:nvPr/>
        </p:nvSpPr>
        <p:spPr>
          <a:xfrm>
            <a:off x="8840880" y="624852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6549078-44E7-43CB-BC08-6C41FEE0EDA0}" type="slidenum">
              <a:rPr b="0" lang="es-ES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Marcador de fecha"/>
          <p:cNvSpPr/>
          <p:nvPr/>
        </p:nvSpPr>
        <p:spPr>
          <a:xfrm>
            <a:off x="495360" y="6245280"/>
            <a:ext cx="21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Bioestadística. U. Mál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37960" y="1571760"/>
            <a:ext cx="3413160" cy="4286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405240" y="1428840"/>
            <a:ext cx="6405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7:28:59Z</dcterms:created>
  <dc:creator>Fco. Javier Barón López</dc:creator>
  <dc:description/>
  <cp:keywords>Bioestadística estadística descriptiva</cp:keywords>
  <dc:language>en-US</dc:language>
  <cp:lastModifiedBy>juan</cp:lastModifiedBy>
  <dcterms:modified xsi:type="dcterms:W3CDTF">2010-09-09T14:12:45Z</dcterms:modified>
  <cp:revision>141</cp:revision>
  <dc:subject/>
  <dc:title>Tema 2: Estadísticos</dc:title>
</cp:coreProperties>
</file>